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728-8A29-4CBC-8EA9-34DB4257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E2F-0B0F-4A24-9C5E-FA8B8869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AAF-C00F-4D64-B2A1-C51D2414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3AA1-9A15-4BE9-B250-7C866308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5050-E2D4-41D3-9445-9C544825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BB7E-3312-4C9E-86BA-A86E8777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59C1-81D2-4EA0-9B8B-E7FDA471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7266-E94A-48F5-AA66-C217DDA4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89E5-136B-4939-8D18-F540BF50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70AF-D105-481C-93F8-95CECB8E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6B2-FC2B-4730-BFE4-9A54845A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34A-8900-4B47-AE57-99598B8C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Fa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Fa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Fax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Fax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Fax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AA56-5F85-4275-942A-30E488503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2666880"/>
            <a:ext cx="3929040" cy="419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Building a Pedigree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Fax"/>
              </a:rPr>
              <a:t>Please add the group names and then resave this document as </a:t>
            </a:r>
            <a:r>
              <a:rPr b="1" i="1" lang="en-US" sz="2800" spc="-1" strike="noStrike">
                <a:solidFill>
                  <a:srgbClr val="000000"/>
                </a:solidFill>
                <a:latin typeface="Lucida Fax"/>
              </a:rPr>
              <a:t>group name pedigree ppt</a:t>
            </a:r>
            <a:endParaRPr b="0" lang="en-US" sz="2800" spc="-1" strike="noStrike">
              <a:solidFill>
                <a:srgbClr val="000000"/>
              </a:solidFill>
              <a:latin typeface="Lucida Fax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Fax"/>
              </a:rPr>
              <a:t>On your H: Drive</a:t>
            </a:r>
            <a:endParaRPr b="0" lang="en-US" sz="28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044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B-4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udent will demonstrate an understanding of the molecular basis of heredity. B-4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 inherited traits by using the principles of Mendelian genetics (including segregation, independent assortment, and dominan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6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Ethnicities are shown in the pedigree.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7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Carriers and afflicted individuals are represented.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8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The genotypes are given when available.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9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Generations are identified and individuals can be found with a number system. 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10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The genotypes of the parents are determined using Punnett squares. 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The Pedigree starts with the parents of the unborn child 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312408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3352680"/>
            <a:ext cx="1981440" cy="703800"/>
          </a:xfrm>
          <a:prstGeom prst="rect">
            <a:avLst/>
          </a:prstGeom>
          <a:noFill/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Father’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3352680"/>
            <a:ext cx="1981080" cy="703800"/>
          </a:xfrm>
          <a:prstGeom prst="rect">
            <a:avLst/>
          </a:prstGeom>
          <a:noFill/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Mother’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Gender is appropriately represented in the pedigree. 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2971800"/>
            <a:ext cx="1524240" cy="121932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ent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4038480"/>
            <a:ext cx="1752840" cy="121932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ent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53080" y="2590920"/>
            <a:ext cx="22860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Fax"/>
              </a:rPr>
              <a:t>Tool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3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Relationships are correctly shown in the pedigree as the maternal and paternal line are added. 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3124080"/>
            <a:ext cx="685800" cy="731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91520" y="4114800"/>
            <a:ext cx="914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48720" y="4343400"/>
            <a:ext cx="0" cy="9144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7543440" y="5364000"/>
            <a:ext cx="762120" cy="731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200400"/>
            <a:ext cx="1524240" cy="121932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ent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4952880"/>
            <a:ext cx="1752480" cy="121932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ent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657600"/>
            <a:ext cx="55627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50021"/>
                </a:solidFill>
                <a:uFillTx/>
                <a:latin typeface="Lucida Fax"/>
              </a:rPr>
              <a:t>Tool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4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Additional family members on the maternal side are added. 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6019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819160" y="6400800"/>
            <a:ext cx="457560" cy="228600"/>
            <a:chOff x="2819160" y="6400800"/>
            <a:chExt cx="457560" cy="228600"/>
          </a:xfrm>
        </p:grpSpPr>
        <p:sp>
          <p:nvSpPr>
            <p:cNvPr id="69" name=""/>
            <p:cNvSpPr/>
            <p:nvPr/>
          </p:nvSpPr>
          <p:spPr>
            <a:xfrm>
              <a:off x="3048120" y="640080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819160" y="640080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371600" y="4114800"/>
            <a:ext cx="609480" cy="60948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5627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8769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1911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5627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41911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5410080"/>
            <a:ext cx="609480" cy="60984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4724280"/>
            <a:ext cx="609480" cy="60984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6019920"/>
            <a:ext cx="609480" cy="60948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4114800"/>
            <a:ext cx="609840" cy="60948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4800600"/>
            <a:ext cx="609480" cy="60948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410080"/>
            <a:ext cx="609480" cy="60984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6095880"/>
            <a:ext cx="609480" cy="60984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819160" y="6172200"/>
            <a:ext cx="457560" cy="228600"/>
            <a:chOff x="2819160" y="6172200"/>
            <a:chExt cx="457560" cy="228600"/>
          </a:xfrm>
        </p:grpSpPr>
        <p:sp>
          <p:nvSpPr>
            <p:cNvPr id="88" name=""/>
            <p:cNvSpPr/>
            <p:nvPr/>
          </p:nvSpPr>
          <p:spPr>
            <a:xfrm>
              <a:off x="3048120" y="617220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617220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895480" y="58672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57150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55627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54100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5257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44956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44956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44956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44956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52578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541008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556272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57150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86728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601992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657600"/>
            <a:ext cx="55627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50021"/>
                </a:solidFill>
                <a:uFillTx/>
                <a:latin typeface="Lucida Fax"/>
              </a:rPr>
              <a:t>Tool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5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Additional family members on the paternal side are added. 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6019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819160" y="6400800"/>
            <a:ext cx="457560" cy="228600"/>
            <a:chOff x="2819160" y="6400800"/>
            <a:chExt cx="457560" cy="228600"/>
          </a:xfrm>
        </p:grpSpPr>
        <p:sp>
          <p:nvSpPr>
            <p:cNvPr id="114" name=""/>
            <p:cNvSpPr/>
            <p:nvPr/>
          </p:nvSpPr>
          <p:spPr>
            <a:xfrm>
              <a:off x="3048120" y="640080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819160" y="640080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371600" y="4114800"/>
            <a:ext cx="609480" cy="60948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2485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5627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8769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1911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2485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55627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8769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41911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410080"/>
            <a:ext cx="609480" cy="60984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4724280"/>
            <a:ext cx="609480" cy="60984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6019920"/>
            <a:ext cx="609480" cy="60948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4114800"/>
            <a:ext cx="609840" cy="60948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4800600"/>
            <a:ext cx="609480" cy="60948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5410080"/>
            <a:ext cx="609480" cy="60984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6095880"/>
            <a:ext cx="609480" cy="60984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819160" y="6172200"/>
            <a:ext cx="457560" cy="228600"/>
            <a:chOff x="2819160" y="6172200"/>
            <a:chExt cx="457560" cy="228600"/>
          </a:xfrm>
        </p:grpSpPr>
        <p:sp>
          <p:nvSpPr>
            <p:cNvPr id="133" name=""/>
            <p:cNvSpPr/>
            <p:nvPr/>
          </p:nvSpPr>
          <p:spPr>
            <a:xfrm>
              <a:off x="3048120" y="617220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819160" y="617220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895480" y="58672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57150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55627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54100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5257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44956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44956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4956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44956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52578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541008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56272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57150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586728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601992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6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Entire pedigree is now pieced together.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6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Birth and death information, when applicable, is provided about each individual.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5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Medical information, bad habits, and/or personal history is given in the family pedigree.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23:30:40Z</dcterms:created>
  <dc:creator>Greenville Schools</dc:creator>
  <dc:description/>
  <dc:language>en-US</dc:language>
  <cp:lastModifiedBy>Greenville Schools</cp:lastModifiedBy>
  <dcterms:modified xsi:type="dcterms:W3CDTF">2008-02-26T22:57:30Z</dcterms:modified>
  <cp:revision>6</cp:revision>
  <dc:subject/>
  <dc:title>Slide 1</dc:title>
</cp:coreProperties>
</file>